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9754C-DEC5-4947-A3ED-6FFE83875A7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29828-7A9A-40B8-8C75-D40B7CE5967A}" type="slidenum"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885-9FA0-4761-8A53-B48E3424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824-02EE-402F-B7E7-B60DD16A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54F-544B-48FF-8B69-9478A6C5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AA5-6414-4183-8F76-C5B5AEB6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75B-AB92-4B72-AEC6-4E5FDEEC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8EC-0238-4A40-B366-5AEE5338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67C-8DCC-4335-8464-76F1B63D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520-D7A0-4655-884C-A3995397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5C6-56BC-423E-A060-511BA394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032-11D3-4182-A42B-80E10353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429-868C-4AB8-826D-10C9426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D97-391D-4D21-A9D9-48F8B76D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C3D5F-C9C2-44B4-9AD5-08C8E983096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1438200" y="0"/>
            <a:ext cx="6823080" cy="423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alibri"/>
              </a:rPr>
              <a:t>Gabriele Gabrielli, Silvia Profili,  </a:t>
            </a:r>
            <a:r>
              <a:rPr b="0" i="1" lang="it-IT" sz="1400" spc="-1" strike="noStrike">
                <a:solidFill>
                  <a:srgbClr val="ffffff"/>
                </a:solidFill>
                <a:latin typeface="Calibri"/>
              </a:rPr>
              <a:t>Organizzazione e gestione delle risorse um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8261280" y="0"/>
            <a:ext cx="870120" cy="12873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7" name="Picture 5" descr=""/>
          <p:cNvPicPr/>
          <p:nvPr/>
        </p:nvPicPr>
        <p:blipFill>
          <a:blip r:embed="rId3"/>
          <a:stretch/>
        </p:blipFill>
        <p:spPr>
          <a:xfrm>
            <a:off x="69840" y="77760"/>
            <a:ext cx="1244520" cy="39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chievement-potere-affili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Quali incentivi utilizzare per soddisfare </a:t>
            </a:r>
            <a:r>
              <a:rPr b="0" i="1" lang="it-IT" sz="3200" spc="-1" strike="noStrike">
                <a:solidFill>
                  <a:srgbClr val="898989"/>
                </a:solidFill>
                <a:latin typeface="Calibri"/>
              </a:rPr>
              <a:t>motives</a:t>
            </a: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 divers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abriele Gabrielli, Silvia Profili, </a:t>
            </a:r>
            <a:r>
              <a:rPr b="0" i="1" lang="en-US" sz="1200" spc="-1" strike="noStrike">
                <a:solidFill>
                  <a:srgbClr val="898989"/>
                </a:solidFill>
                <a:latin typeface="Calibri"/>
              </a:rPr>
              <a:t>Organizzazione e gestione delle risorse umane, II ed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De Agostini Scuola Sp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857680" y="1350720"/>
            <a:ext cx="2392200" cy="176400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Spinta al raggiungimento di obiettivi individu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Ricerca del successo e miglioramento continu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85640" y="2230560"/>
            <a:ext cx="1695600" cy="255240"/>
          </a:xfrm>
          <a:prstGeom prst="rect">
            <a:avLst/>
          </a:prstGeom>
          <a:solidFill>
            <a:srgbClr val="969696"/>
          </a:solidFill>
          <a:ln w="28440">
            <a:solidFill>
              <a:srgbClr val="969696"/>
            </a:solidFill>
            <a:miter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0" bIns="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Achie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85640" y="5148360"/>
            <a:ext cx="1695600" cy="255240"/>
          </a:xfrm>
          <a:prstGeom prst="rect">
            <a:avLst/>
          </a:prstGeom>
          <a:solidFill>
            <a:srgbClr val="969696"/>
          </a:solidFill>
          <a:ln w="28440">
            <a:solidFill>
              <a:srgbClr val="969696"/>
            </a:solidFill>
            <a:miter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0" bIns="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Affili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485640" y="3676680"/>
            <a:ext cx="1695600" cy="255240"/>
          </a:xfrm>
          <a:prstGeom prst="rect">
            <a:avLst/>
          </a:prstGeom>
          <a:solidFill>
            <a:srgbClr val="969696"/>
          </a:solidFill>
          <a:ln w="28440">
            <a:solidFill>
              <a:srgbClr val="969696"/>
            </a:solidFill>
            <a:miter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0" bIns="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3"/>
          <p:cNvSpPr/>
          <p:nvPr/>
        </p:nvSpPr>
        <p:spPr>
          <a:xfrm flipH="1" flipV="1" rot="16200000">
            <a:off x="2153520" y="2173680"/>
            <a:ext cx="1090440" cy="2811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809640"/>
            <a:ext cx="2390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LE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7"/>
          <p:cNvSpPr/>
          <p:nvPr/>
        </p:nvSpPr>
        <p:spPr>
          <a:xfrm flipH="1" flipV="1">
            <a:off x="6157800" y="1116720"/>
            <a:ext cx="1967040" cy="17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" bIns="11880" anchor="ctr" rot="10800000">
            <a:no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908680" y="1599120"/>
            <a:ext cx="267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 marL="341280" indent="-341280">
              <a:lnSpc>
                <a:spcPct val="93000"/>
              </a:lnSpc>
              <a:spcBef>
                <a:spcPts val="112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Obiettivi sfidan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Feedback continu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Impegno e sforzo pers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Formazi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19"/>
          <p:cNvSpPr/>
          <p:nvPr/>
        </p:nvSpPr>
        <p:spPr>
          <a:xfrm flipH="1" flipV="1" rot="16200000">
            <a:off x="4941000" y="2245680"/>
            <a:ext cx="1090800" cy="2822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5727600" y="3075120"/>
            <a:ext cx="3025800" cy="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2840040" y="3316320"/>
            <a:ext cx="2390760" cy="125424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Spinta a esercitare influenza, controllo e guida sugli altr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Prestig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23"/>
          <p:cNvSpPr/>
          <p:nvPr/>
        </p:nvSpPr>
        <p:spPr>
          <a:xfrm flipH="1" flipV="1" rot="16200000">
            <a:off x="2127240" y="3688200"/>
            <a:ext cx="1090440" cy="2808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4"/>
          <p:cNvSpPr/>
          <p:nvPr/>
        </p:nvSpPr>
        <p:spPr>
          <a:xfrm flipH="1" flipV="1" rot="16200000">
            <a:off x="4914360" y="3692880"/>
            <a:ext cx="1090440" cy="2811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2857680" y="4880160"/>
            <a:ext cx="2390760" cy="85644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Spinta a sviluppare relazioni durature, positive ed importan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26"/>
          <p:cNvSpPr/>
          <p:nvPr/>
        </p:nvSpPr>
        <p:spPr>
          <a:xfrm flipH="1" flipV="1" rot="16200000">
            <a:off x="2127240" y="5132520"/>
            <a:ext cx="1090800" cy="2808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7"/>
          <p:cNvSpPr/>
          <p:nvPr/>
        </p:nvSpPr>
        <p:spPr>
          <a:xfrm flipH="1" flipV="1" rot="16200000">
            <a:off x="4914000" y="5132160"/>
            <a:ext cx="1090800" cy="2811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5943600" y="3102480"/>
            <a:ext cx="253224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 marL="341280" indent="-341280">
              <a:lnSpc>
                <a:spcPct val="93000"/>
              </a:lnSpc>
              <a:spcBef>
                <a:spcPts val="112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Risorse da gest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Visibilità organizz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Ambiente competi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6062760" y="4631040"/>
            <a:ext cx="23940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 marL="341280" indent="-341280">
              <a:lnSpc>
                <a:spcPct val="93000"/>
              </a:lnSpc>
              <a:spcBef>
                <a:spcPts val="112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Apprezzamen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Team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Reti soci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</a:rPr>
              <a:t>Clima e buone relazio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5710320" y="4646520"/>
            <a:ext cx="3024000" cy="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8305920" y="160200"/>
            <a:ext cx="328320" cy="411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6"/>
          <p:cNvSpPr/>
          <p:nvPr/>
        </p:nvSpPr>
        <p:spPr>
          <a:xfrm>
            <a:off x="485640" y="809640"/>
            <a:ext cx="2390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MO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7"/>
          <p:cNvSpPr/>
          <p:nvPr/>
        </p:nvSpPr>
        <p:spPr>
          <a:xfrm flipH="1" flipV="1">
            <a:off x="214200" y="1158120"/>
            <a:ext cx="1967040" cy="17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" bIns="11880" anchor="ctr" rot="10800000">
            <a:no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abriele Gabrielli, Silvia Profili, </a:t>
            </a:r>
            <a:r>
              <a:rPr b="0" i="1" lang="en-US" sz="1200" spc="-1" strike="noStrike">
                <a:solidFill>
                  <a:srgbClr val="898989"/>
                </a:solidFill>
                <a:latin typeface="Calibri"/>
              </a:rPr>
              <a:t>Organizzazione e gestione delle risorse umane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3 De Agostini Scuola Sp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18:08:34Z</dcterms:created>
  <dc:creator>mac</dc:creator>
  <dc:description/>
  <dc:language>en-US</dc:language>
  <cp:lastModifiedBy>Anna Altieri</cp:lastModifiedBy>
  <dcterms:modified xsi:type="dcterms:W3CDTF">2016-11-03T15:18:32Z</dcterms:modified>
  <cp:revision>5</cp:revision>
  <dc:subject/>
  <dc:title>Achievement-potere-affiliazione</dc:title>
</cp:coreProperties>
</file>